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C5E3-CD1F-4BC6-824C-7D32E7D46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C295-4694-4E0D-A555-634E7B903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30F9-53D4-4243-BEF3-4B585C4DA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3116-5C92-41D4-A381-37A7C0C209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01DE-4423-4DAD-9B79-A4A3AF808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6CB-1BCC-4560-A636-6E830D79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29B-8BCE-4FD2-96E9-8C5D7427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EC9-47D7-4781-80BF-7361CAD0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768-9EA5-4CE0-BBBD-91A23B5E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AB2D-7025-438D-923B-86C5C6B2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71AC-E18E-46D8-AD86-22B461C3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2E4D-4711-4D51-AE9F-81E59E88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49C5-0579-458D-BC53-8CBB0F07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B145-6C91-46B3-BEFE-1A597EF1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661F-CA34-4C8E-AD6D-97E21FB0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CC56-0194-4C05-A6AF-18B8C7C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C78-94D5-49E0-B05D-9884AE3B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5F5F-924F-44E6-AB95-4CD48A2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4D82-5928-4216-80C3-AA7050FD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0F10-5144-407C-A6CB-4C87E6C5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FC46-AAE3-431B-8900-1947CE43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3E1D-7924-4986-A934-BF952711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FE8-C263-4648-8D68-71BF6CC4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487-63B1-4647-B099-96579F19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887-43E1-4669-8F52-51878EEF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55E-98F2-4D43-A6EA-241EF450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44B-4DF4-46A2-B9FC-2817CFE4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350-BF5F-46E9-844C-CC0D3E94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59B-2A02-41D6-8B90-340F5D5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2D86-BE31-4D4A-BBF3-C40E06D543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418B-7EB6-474D-AA2A-77C61DE33A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rexinspire.com/image/currency%2520exchange%2520rate.jpg&amp;imgrefurl=http://www.forexinspire.com/currency-exchange-rate-2/&amp;usg=__z97t6A_Np7DFyo3fbCeNYSnDLNo=&amp;h=326&amp;w=480&amp;sz=57&amp;hl=cy&amp;start=1&amp;um=1&amp;tbnid=FD8O0476JKSxsM:&amp;tbnh=88&amp;tbnw=129&amp;prev=/images%3Fq%3Dexchange%2Brates%2Bcurrency%26hl%3Dcy%26rls%3Dcom.microsoft:cy-gb:IE-SearchBox%26rlz%3D1I7RNWN_en%26sa%3DN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ameriflowrecycling.com/yahoo_site_admin/assets/images/1.15863459_std.jpg&amp;imgrefurl=http://www.ameriflowrecycling.com/currency_exchange_rates&amp;usg=__UR14tutxNE0F2qVsfGvJ2-SIZzg=&amp;h=598&amp;w=800&amp;sz=138&amp;hl=cy&amp;start=7&amp;um=1&amp;tbnid=ZlMawZGhnztzCM:&amp;tbnh=107&amp;tbnw=143&amp;prev=/images%3Fq%3Dexchange%2Brates%2Bcurrency%26hl%3Dcy%26rls%3Dcom.microsoft:cy-gb:IE-SearchBox%26rlz%3D1I7RNWN_en%26sa%3DN%26um%3D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4360" y="260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Arian Tram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t2.gstatic.com/images?q=tbn:FD8O0476JKSxsM:http://www.forexinspire.com/image/currency%2520exchange%2520ra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1143000"/>
            <a:ext cx="261756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t2.gstatic.com/images?q=tbn:ZlMawZGhnztzCM:http://ameriflowrecycling.com/yahoo_site_admin/assets/images/1.15863459_st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3357720"/>
            <a:ext cx="3627720" cy="27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t1.gstatic.com/images?q=tbn:DAWBARYF29VB1M:http://i.ehow.com/images/GlobalPhoto/Articles/4669464/Foreignmoneyexchangerates-main_Full.jpg"/>
          <p:cNvPicPr/>
          <p:nvPr/>
        </p:nvPicPr>
        <p:blipFill>
          <a:blip r:embed="rId5"/>
          <a:stretch/>
        </p:blipFill>
        <p:spPr>
          <a:xfrm>
            <a:off x="1071720" y="4000680"/>
            <a:ext cx="3106440" cy="207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www.cartoonstock.com/lowres/hsc4732l.jpg"/>
          <p:cNvPicPr/>
          <p:nvPr/>
        </p:nvPicPr>
        <p:blipFill>
          <a:blip r:embed="rId6"/>
          <a:srcRect l="0" t="13150" r="5553" b="0"/>
          <a:stretch/>
        </p:blipFill>
        <p:spPr>
          <a:xfrm>
            <a:off x="1071720" y="1000080"/>
            <a:ext cx="30002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428760" y="35712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yfradd new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"/>
          <p:cNvSpPr/>
          <p:nvPr/>
        </p:nvSpPr>
        <p:spPr>
          <a:xfrm>
            <a:off x="357120" y="1285920"/>
            <a:ext cx="564372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£ 1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.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1500120" y="2500200"/>
            <a:ext cx="5643720" cy="1838520"/>
          </a:xfrm>
          <a:prstGeom prst="pie">
            <a:avLst/>
          </a:prstGeom>
          <a:solidFill>
            <a:srgbClr val="b3c2e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£ 1 = $1.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2786040" y="3857760"/>
            <a:ext cx="5643720" cy="1838160"/>
          </a:xfrm>
          <a:prstGeom prst="pi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£ 1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¥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6"/>
          <p:cNvSpPr/>
          <p:nvPr/>
        </p:nvSpPr>
        <p:spPr>
          <a:xfrm>
            <a:off x="7596360" y="2637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357120" y="857160"/>
            <a:ext cx="8501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Newidiodd Gareth £850 i ddoleri’r UD ($), p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edd y gyfradd cyfnewid yn £1 = $1.8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nt o ddoleri a gafod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2"/>
          <p:cNvSpPr/>
          <p:nvPr/>
        </p:nvSpPr>
        <p:spPr>
          <a:xfrm>
            <a:off x="285840" y="285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ghraif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5910120" y="2357280"/>
            <a:ext cx="2375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£1 = $1.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422280" y="292896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wl doler yw £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3328920" y="292896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1.88 ×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476280" y="35719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wl doler yw £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3382560" y="357192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1.88 ×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482760" y="421488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wl doler yw £1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3603600" y="421488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1.88 × 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3"/>
          <p:cNvSpPr/>
          <p:nvPr/>
        </p:nvSpPr>
        <p:spPr>
          <a:xfrm>
            <a:off x="1462320" y="49291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3556800" y="54291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1.88 × 8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2418480" y="542916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£85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5314680" y="54291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= $15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6161400" y="2500200"/>
            <a:ext cx="2375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£1 = $2.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14200" y="285840"/>
            <a:ext cx="8501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Yn ystod ei ymweliad gwariodd Gareth gyfanswm o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1367. Ar ôl dychwelyd, newidiodd y doleri a oedd y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ddill ganddo yn ôl i bunnoedd ar gyfradd cyfnewid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 £1 = $2.20. Faint o bunnoedd a gafod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64120" y="228600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n wedd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393920" y="278604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 15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486520" y="2786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- $ 136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741840" y="27860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= $ 2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06960" y="350028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nt o bunnoedd a gafod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672560" y="41432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 2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2601000" y="414324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÷ 2.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614760" y="41432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= £ 1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1424520" y="5214960"/>
            <a:ext cx="62233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e cwestiynau newid arian yn delio gy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luosi a rhannu yn un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31:20Z</dcterms:created>
  <dc:creator>Carwyn</dc:creator>
  <dc:description/>
  <dc:language>en-US</dc:language>
  <cp:lastModifiedBy>Carwyn</cp:lastModifiedBy>
  <dcterms:modified xsi:type="dcterms:W3CDTF">2009-09-16T22:05:57Z</dcterms:modified>
  <cp:revision>11</cp:revision>
  <dc:subject/>
  <dc:title>Diagramau cangen</dc:title>
</cp:coreProperties>
</file>